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D9D-882B-4966-928C-64D9B17D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BA5-40D1-498F-8BCA-610F4295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D4E92-08A5-429B-9BF5-15445027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B10A6-D7D3-486D-B690-BD10FCDD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1D2AC-46E2-4390-B041-12119FC3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8159-D6FC-40F4-BB0E-6C12730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BDED6-D854-4288-B638-608B256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3F09C-ACD2-45E2-B9E2-222F3A5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9D2FB-667C-456B-99A4-0A7FAD24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8DD05-CE6C-417B-A250-81BF5008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BD1C4-D05B-4CCA-A16C-723D69DE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33BBB-739F-4B9B-AF3F-B5514B7B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201-DDB3-4F42-9597-C7B51CF4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121E4-3A05-4A4E-A440-3A91F780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4D323-427A-4752-A487-2338CB91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19A83-DC2E-4D5A-BB62-18E6C49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4F4E0-B4C8-43B4-8473-0C616E8F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07938-620B-4C7C-9992-A50A46B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C2E5-EED9-4D92-9020-8EC7CCF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421A2-13D6-4975-9CD1-D74C741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53DF8-DEBB-4161-A572-570B34AB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20546-5EB8-463E-9719-7F74F7D9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8FC4E-23EF-4300-A6D9-053D696F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D66-A7C0-44A7-9010-08D42DB7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DD5A7-6D9C-4EA1-BC7F-B427A408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73D53-603E-45B6-B5CB-A22CED9C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C93B8-91E8-4802-9AE3-641771E3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0969E-8074-4C88-A2C2-C9D25664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A7A8A-C2E5-49BB-8167-56B5AB62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3524F-132C-43CE-849A-53CD735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33F6-C5A2-4CC7-B7BB-2E74D08A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0A5C-FE32-4510-BFA9-034BBD3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56772-BDE4-43CB-9D3B-8C72761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03716-7F71-4124-9CFF-252960A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3ED9-0EB1-4C92-A0A4-26B70F7E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70AB-0214-401F-A948-DA4569AE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F5D68-7E8F-4297-B349-7AC08E79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986B-2414-433A-ADA4-DE49E4B6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19DE1-0EC0-4A5B-A59A-0B4CD7F5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06470-F355-42B7-90AC-47E45A5F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335DC-7771-417F-AB3D-F8CB43F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1B67-4787-45DC-8CE2-4B77F43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92867-BC6D-4621-A67D-96698D60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C556F-9F21-4232-B4D8-7358CD28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58ED6-16A3-4AD4-8C23-8728755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21F4-6372-48D5-91BB-45BE1895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BAD77-A252-4615-B3D0-13C9FA5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1273F-A476-48F7-B71A-39ADD6A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34BC9-BF13-49B3-A515-41229852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72003-115F-40B9-82CF-56B51243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56062-2FB8-4672-988D-64D751D8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5045-E4E5-412C-A5E7-BCDB497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C0EB-FA31-45BC-82CA-1D7E8CE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95A5-3CCA-4641-B704-0902E906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1C90-2B2F-47F5-BDA7-24E7711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B1F-A3D4-4934-85A7-CB6B4128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A3-68A1-4D2C-8D28-53482F4D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7260-D99C-42DF-8A62-ECA668E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B5E8-8752-4359-83C8-E1AE7AFF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E2F1-DD10-488A-8D16-7CDA17E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C670-8B9D-4233-9114-B456AF60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22A-45B7-4C49-9A80-0F463FF3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014D-3F59-4B6F-962E-8406658B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A3E2-55E7-4019-846C-1FBC9CC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9ACA-378D-41B8-94FD-71247D9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9F47-F22E-456F-9E8D-7F008EB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E67C-FB85-49EE-AA4F-AE2D0B3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296-E2C5-429E-ACC7-59800C13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2A92-7F1B-4380-B68A-5979E7D6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CA6D-34F1-4915-9E20-9EBCB13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E70B-2245-4DC8-A837-3810CD2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7F3A-2343-4769-A8CC-16F6FA5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D146-7954-4A20-AC73-8B6F9FDA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1AB0-DCEF-493D-831B-C991CE03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28F2-3B1F-4CA9-8A89-5973C52D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B7EA-7C1B-4C3F-97EE-B2999F44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52BE-3868-45E3-B9FA-335855F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1F7C-0B26-4AE3-9308-0178DC5B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64D-C327-4C77-87B4-211919C8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0479-C2C8-4483-875B-C72C844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00BB-3A45-4374-AFE4-0EC5677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9C19-6E25-4B55-B1A8-083DBE69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4884-55FC-4B9C-B17D-A059F56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1762-D45C-4BB9-B081-F5B5B2A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48F9-5693-4FAD-84E8-2DD4E2E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B540-52E8-45F9-A48D-03827C54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53AB-D21B-485F-8082-E690C497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84DC8-5BF1-4BC3-9AA7-BEA08E47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F782-A2DB-4707-9F0E-FC8BD6A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8F2-3504-4679-B366-59D07A0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615D-CB2C-41E5-A84D-1C5BF36B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B07C2-B84A-4008-96E0-68F2356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82D12-A346-4018-A680-C6954BB7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D225-5B29-4E2E-9CCB-E12FF668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EC11-A396-45A7-8413-F2DF760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AFECC-DAE1-466E-8EA3-C3C0171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D065-8E04-4377-A4D1-6E0DD53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DCF7-FBD5-42F2-AFB1-F1D6BDD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4FA2-16D3-4729-9E09-48FE61B8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8D73-3291-4455-8690-34FF2AB7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F59-BB22-4B8C-BF0A-C87C1A2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3012-3A8D-48C8-9382-EB1D93E5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5955-E94D-4C64-812C-33B412B3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BEABF-E881-4BA7-AB3B-73A76450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7D0A1-8E18-41A1-AF73-12018AEB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0232-CAC7-4302-AF1E-9C278387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477D-E5B6-41D8-BAF0-DAB55CE2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08B2-86E2-4336-97DE-5018A29F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2CC4A-CBE3-4991-B37B-82A7E99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9581-B6C4-45F8-8B72-0F9C566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5577-A028-432F-969D-F9F60F5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044-DCDC-4FAC-A9B2-AA26318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2DD80-B507-4BB6-9208-B068673A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CC0BF-C7F3-4042-80D6-2313615B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5B832-7144-4D8A-B799-472986C9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5C5E-E4FF-4DEE-B622-FD5BB8E4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101D-D9A3-4A96-8692-632D20A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2EAE-7F45-4A59-93D2-D9468FD7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FB5F-6B24-4BF4-9771-71F07D7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6CE5-BBEC-4FFD-BF73-348E7C7D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903E-EA60-4321-AC67-35EB625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3BF1-CBD5-486D-A32A-911FA68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462-365C-4C35-AE06-DD9B247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6EEB-4CF7-4A63-95D7-26969AF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C9D5F-353B-4980-8714-033F752B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4009-65AB-4FAE-AF62-48AE2745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EF3A-A42A-4C8F-BE99-00C24A52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0466-2473-4255-82AB-B5F66D0A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9EC3-FFFA-4C3C-803B-7A7819EF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449E7-9E1D-47A7-B6B1-E9DDC4C5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403CC-8CC4-405E-9EC3-BFC9457D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30F5-2797-4C4D-8F70-679D498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F902-F50F-44D9-8391-02D802C0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FFD-5916-4CC1-BF8C-4BD4F62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32907-1FD8-4442-867C-79E5DAA3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5B30-94A0-456A-94D9-4FD31D0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05B6-9CDD-427F-94AE-6A7ADCA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A297C-A0C9-47AD-9EFA-C47AE6C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9109D-D737-479E-8A48-43F8767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E4989-34EC-4F40-96FB-11213979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5999-A34B-4AE5-BFFB-AB6F4FC7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326B8-0604-4771-B9BA-0A780D89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A53C9-C3E5-490A-BC51-E9AD45B8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07F8B-0477-4340-AF1F-8BA4ED61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81E3-B8EE-4862-BFFC-3F345AFAD8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D95-EE0E-4D75-988C-59A6B632E5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BEB-BDF0-4C2F-ABAC-A1A01708BB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F66-997C-479A-B628-B6D20CF75E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B34-F9BC-4545-8754-FD6C6071FD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650-B610-4393-9E3F-65013834E3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CAE-C243-4500-B8CE-DBBDD08A33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3EF-66AD-452B-98DB-DCB45A391D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5382-52E8-46AE-881E-9B5FCF9D90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2680-2BB7-47B8-9F0A-34B9959D43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0B3-D03D-4272-A818-EC0FF0CE428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F91F-8812-475A-8059-110490BCF5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8 Ty, jasné Svetlo, svieť mi noci tm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jasné Svetlo, svieť mi noci tmou a krok môj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tebou pôjdem cestou bezpečnou až k cieľu vpre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dosiaľ skrýva tma breh otči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stačí vidieť na krok jedi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 vždy som rád šiel, Pane, za tebou a dal sa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ábil ma svet a klamnou vidinou dal som za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osteň miatol rozu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ôľu, ci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neuzrel s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ho svetla sv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tvoja láska krok môj požehná a vedie vpred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e číha priepasť bezodná, úskalie b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deje lúč však žiari v ústre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ojím svetlom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len ty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1T16:39:41Z</dcterms:modified>
  <cp:revision>22</cp:revision>
  <dc:subject/>
  <dc:title>Je veľký náš Pán, on slávy je Kráľ Nech do všetkých strán  spev vrúcnych znie chvál.</dc:title>
</cp:coreProperties>
</file>